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6C2-B7DA-4C00-BDA9-C8106475B76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72A-7993-493F-82D7-5A7391DC15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8E70-68F2-4E03-B21D-8B2292DFB84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F5A-49B6-467A-AC9C-01568CF4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C71-265F-46CB-90E2-37901BF9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0C0-EC89-4BEA-BC40-190AD959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6D3-CC51-44FD-85BE-0ABA603D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983-D993-4D70-B240-CEF1E55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352-FC6E-4188-BB1E-832124B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E79-2A82-42A5-8343-619A028E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7C6-E8CB-41B7-A5FC-1911CEE9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A70-E53C-4D3E-B599-4639EEC1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1CA-2C05-480D-B5EE-A105703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11E-65B1-4A36-8218-82AF930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D68-56FE-40CC-B7E0-F78BA52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EEF8-F3F1-4F8C-BFF4-39B7CFCE8BC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06840" cy="262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  <a:ea typeface="NtMotoyaKyotai"/>
              </a:rPr>
              <a:t>の り も 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71640" y="4797000"/>
            <a:ext cx="34560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tenses/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1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cc"/>
                </a:solidFill>
                <a:latin typeface="Kristen ITC"/>
                <a:ea typeface="Arial"/>
              </a:rPr>
              <a:t>Topic 1 Unit 2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flipH="1">
            <a:off x="5940360" y="458136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1763640" y="3284640"/>
            <a:ext cx="554508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ff"/>
                </a:solidFill>
                <a:latin typeface="Ravie"/>
              </a:rPr>
              <a:t>Transport</a:t>
            </a:r>
            <a:endParaRPr b="1" lang="en-US" sz="2000" spc="1" strike="noStrike">
              <a:ln w="0">
                <a:noFill/>
              </a:ln>
              <a:solidFill>
                <a:srgbClr val="ff00ff"/>
              </a:solidFill>
              <a:latin typeface="Ravie"/>
              <a:ea typeface="Ravie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6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6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テキスト ボックス 30" descr=""/>
          <p:cNvPicPr/>
          <p:nvPr/>
        </p:nvPicPr>
        <p:blipFill>
          <a:blip r:embed="rId1"/>
          <a:stretch/>
        </p:blipFill>
        <p:spPr>
          <a:xfrm>
            <a:off x="-1517760" y="-1809720"/>
            <a:ext cx="12576240" cy="8691480"/>
          </a:xfrm>
          <a:prstGeom prst="rect">
            <a:avLst/>
          </a:prstGeom>
          <a:ln w="0">
            <a:noFill/>
          </a:ln>
        </p:spPr>
      </p:pic>
      <p:sp>
        <p:nvSpPr>
          <p:cNvPr id="55" name="フリーフォーム 38"/>
          <p:cNvSpPr/>
          <p:nvPr/>
        </p:nvSpPr>
        <p:spPr>
          <a:xfrm>
            <a:off x="2597040" y="1592280"/>
            <a:ext cx="1165320" cy="923760"/>
          </a:xfrm>
          <a:custGeom>
            <a:avLst/>
            <a:gdLst/>
            <a:ahLst/>
            <a:rect l="l" t="t" r="r" b="b"/>
            <a:pathLst>
              <a:path w="1262063" h="923925">
                <a:moveTo>
                  <a:pt x="702469" y="352425"/>
                </a:moveTo>
                <a:lnTo>
                  <a:pt x="788194" y="261938"/>
                </a:lnTo>
                <a:lnTo>
                  <a:pt x="840582" y="207169"/>
                </a:lnTo>
                <a:lnTo>
                  <a:pt x="857250" y="176213"/>
                </a:lnTo>
                <a:lnTo>
                  <a:pt x="862013" y="152400"/>
                </a:lnTo>
                <a:lnTo>
                  <a:pt x="857250" y="128588"/>
                </a:lnTo>
                <a:lnTo>
                  <a:pt x="833438" y="95250"/>
                </a:lnTo>
                <a:lnTo>
                  <a:pt x="800100" y="54769"/>
                </a:lnTo>
                <a:lnTo>
                  <a:pt x="790575" y="33338"/>
                </a:lnTo>
                <a:lnTo>
                  <a:pt x="790575" y="21432"/>
                </a:lnTo>
                <a:lnTo>
                  <a:pt x="795338" y="9525"/>
                </a:lnTo>
                <a:lnTo>
                  <a:pt x="819150" y="0"/>
                </a:lnTo>
                <a:lnTo>
                  <a:pt x="895350" y="16669"/>
                </a:lnTo>
                <a:lnTo>
                  <a:pt x="988219" y="47625"/>
                </a:lnTo>
                <a:lnTo>
                  <a:pt x="1062038" y="80963"/>
                </a:lnTo>
                <a:lnTo>
                  <a:pt x="1126332" y="123825"/>
                </a:lnTo>
                <a:lnTo>
                  <a:pt x="1181100" y="157163"/>
                </a:lnTo>
                <a:lnTo>
                  <a:pt x="1231107" y="197644"/>
                </a:lnTo>
                <a:lnTo>
                  <a:pt x="1252538" y="223838"/>
                </a:lnTo>
                <a:lnTo>
                  <a:pt x="1262063" y="247650"/>
                </a:lnTo>
                <a:lnTo>
                  <a:pt x="1259682" y="273844"/>
                </a:lnTo>
                <a:lnTo>
                  <a:pt x="1252538" y="285750"/>
                </a:lnTo>
                <a:lnTo>
                  <a:pt x="1226344" y="292894"/>
                </a:lnTo>
                <a:lnTo>
                  <a:pt x="1188244" y="295275"/>
                </a:lnTo>
                <a:lnTo>
                  <a:pt x="1138238" y="314325"/>
                </a:lnTo>
                <a:lnTo>
                  <a:pt x="954882" y="442913"/>
                </a:lnTo>
                <a:lnTo>
                  <a:pt x="797719" y="550069"/>
                </a:lnTo>
                <a:lnTo>
                  <a:pt x="626269" y="659607"/>
                </a:lnTo>
                <a:lnTo>
                  <a:pt x="464344" y="750094"/>
                </a:lnTo>
                <a:lnTo>
                  <a:pt x="300038" y="833438"/>
                </a:lnTo>
                <a:lnTo>
                  <a:pt x="202407" y="871538"/>
                </a:lnTo>
                <a:lnTo>
                  <a:pt x="102394" y="907257"/>
                </a:lnTo>
                <a:lnTo>
                  <a:pt x="40482" y="923925"/>
                </a:lnTo>
                <a:lnTo>
                  <a:pt x="11907" y="923925"/>
                </a:lnTo>
                <a:lnTo>
                  <a:pt x="0" y="909638"/>
                </a:lnTo>
                <a:lnTo>
                  <a:pt x="2382" y="895350"/>
                </a:lnTo>
                <a:lnTo>
                  <a:pt x="14288" y="873919"/>
                </a:lnTo>
                <a:lnTo>
                  <a:pt x="128588" y="814388"/>
                </a:lnTo>
                <a:lnTo>
                  <a:pt x="264319" y="731044"/>
                </a:lnTo>
                <a:lnTo>
                  <a:pt x="414338" y="619125"/>
                </a:lnTo>
                <a:lnTo>
                  <a:pt x="588169" y="469107"/>
                </a:lnTo>
                <a:lnTo>
                  <a:pt x="702469" y="3524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" name="フリーフォーム 39"/>
          <p:cNvSpPr/>
          <p:nvPr/>
        </p:nvSpPr>
        <p:spPr>
          <a:xfrm>
            <a:off x="2368440" y="2538360"/>
            <a:ext cx="1324080" cy="1824120"/>
          </a:xfrm>
          <a:custGeom>
            <a:avLst/>
            <a:gdLst/>
            <a:ahLst/>
            <a:rect l="l" t="t" r="r" b="b"/>
            <a:pathLst>
              <a:path w="1435894" h="1824037">
                <a:moveTo>
                  <a:pt x="852488" y="695325"/>
                </a:moveTo>
                <a:lnTo>
                  <a:pt x="1009650" y="431006"/>
                </a:lnTo>
                <a:lnTo>
                  <a:pt x="1081088" y="300037"/>
                </a:lnTo>
                <a:lnTo>
                  <a:pt x="1095375" y="259556"/>
                </a:lnTo>
                <a:lnTo>
                  <a:pt x="1104900" y="216693"/>
                </a:lnTo>
                <a:lnTo>
                  <a:pt x="1109663" y="161925"/>
                </a:lnTo>
                <a:lnTo>
                  <a:pt x="1100138" y="119062"/>
                </a:lnTo>
                <a:lnTo>
                  <a:pt x="1076325" y="80962"/>
                </a:lnTo>
                <a:lnTo>
                  <a:pt x="1054894" y="59531"/>
                </a:lnTo>
                <a:lnTo>
                  <a:pt x="1040607" y="30956"/>
                </a:lnTo>
                <a:lnTo>
                  <a:pt x="1042988" y="16668"/>
                </a:lnTo>
                <a:lnTo>
                  <a:pt x="1054894" y="4762"/>
                </a:lnTo>
                <a:lnTo>
                  <a:pt x="1088232" y="0"/>
                </a:lnTo>
                <a:lnTo>
                  <a:pt x="1162050" y="11906"/>
                </a:lnTo>
                <a:lnTo>
                  <a:pt x="1209675" y="33337"/>
                </a:lnTo>
                <a:lnTo>
                  <a:pt x="1252538" y="57150"/>
                </a:lnTo>
                <a:lnTo>
                  <a:pt x="1326357" y="107156"/>
                </a:lnTo>
                <a:lnTo>
                  <a:pt x="1383507" y="152400"/>
                </a:lnTo>
                <a:lnTo>
                  <a:pt x="1407319" y="176212"/>
                </a:lnTo>
                <a:lnTo>
                  <a:pt x="1426369" y="202406"/>
                </a:lnTo>
                <a:lnTo>
                  <a:pt x="1433513" y="228600"/>
                </a:lnTo>
                <a:lnTo>
                  <a:pt x="1435894" y="259556"/>
                </a:lnTo>
                <a:lnTo>
                  <a:pt x="1433513" y="288131"/>
                </a:lnTo>
                <a:lnTo>
                  <a:pt x="1421607" y="300037"/>
                </a:lnTo>
                <a:lnTo>
                  <a:pt x="1393032" y="314325"/>
                </a:lnTo>
                <a:lnTo>
                  <a:pt x="1362075" y="328612"/>
                </a:lnTo>
                <a:lnTo>
                  <a:pt x="1343025" y="342900"/>
                </a:lnTo>
                <a:lnTo>
                  <a:pt x="1321594" y="369093"/>
                </a:lnTo>
                <a:lnTo>
                  <a:pt x="1302544" y="407193"/>
                </a:lnTo>
                <a:lnTo>
                  <a:pt x="1209675" y="564356"/>
                </a:lnTo>
                <a:lnTo>
                  <a:pt x="1069182" y="769143"/>
                </a:lnTo>
                <a:lnTo>
                  <a:pt x="983457" y="890587"/>
                </a:lnTo>
                <a:lnTo>
                  <a:pt x="864394" y="1066800"/>
                </a:lnTo>
                <a:lnTo>
                  <a:pt x="752475" y="1193006"/>
                </a:lnTo>
                <a:lnTo>
                  <a:pt x="592932" y="1350168"/>
                </a:lnTo>
                <a:lnTo>
                  <a:pt x="445294" y="1495425"/>
                </a:lnTo>
                <a:lnTo>
                  <a:pt x="278607" y="1640681"/>
                </a:lnTo>
                <a:lnTo>
                  <a:pt x="128588" y="1757362"/>
                </a:lnTo>
                <a:lnTo>
                  <a:pt x="50007" y="1812131"/>
                </a:lnTo>
                <a:lnTo>
                  <a:pt x="21432" y="1824037"/>
                </a:lnTo>
                <a:lnTo>
                  <a:pt x="0" y="1824037"/>
                </a:lnTo>
                <a:lnTo>
                  <a:pt x="2382" y="1812131"/>
                </a:lnTo>
                <a:lnTo>
                  <a:pt x="11907" y="1790700"/>
                </a:lnTo>
                <a:lnTo>
                  <a:pt x="176213" y="1614487"/>
                </a:lnTo>
                <a:lnTo>
                  <a:pt x="290513" y="1481137"/>
                </a:lnTo>
                <a:lnTo>
                  <a:pt x="421482" y="1321593"/>
                </a:lnTo>
                <a:lnTo>
                  <a:pt x="538163" y="1164431"/>
                </a:lnTo>
                <a:lnTo>
                  <a:pt x="700088" y="935831"/>
                </a:lnTo>
                <a:lnTo>
                  <a:pt x="852488" y="6953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フリーフォーム 46"/>
          <p:cNvSpPr/>
          <p:nvPr/>
        </p:nvSpPr>
        <p:spPr>
          <a:xfrm>
            <a:off x="4344840" y="1709640"/>
            <a:ext cx="1627200" cy="444600"/>
          </a:xfrm>
          <a:custGeom>
            <a:avLst/>
            <a:gdLst/>
            <a:ahLst/>
            <a:rect l="l" t="t" r="r" b="b"/>
            <a:pathLst>
              <a:path w="1762125" h="445293">
                <a:moveTo>
                  <a:pt x="854869" y="173831"/>
                </a:moveTo>
                <a:lnTo>
                  <a:pt x="1083469" y="121443"/>
                </a:lnTo>
                <a:lnTo>
                  <a:pt x="1200150" y="92868"/>
                </a:lnTo>
                <a:lnTo>
                  <a:pt x="1216819" y="78581"/>
                </a:lnTo>
                <a:lnTo>
                  <a:pt x="1257300" y="42862"/>
                </a:lnTo>
                <a:lnTo>
                  <a:pt x="1304925" y="14287"/>
                </a:lnTo>
                <a:lnTo>
                  <a:pt x="1345407" y="0"/>
                </a:lnTo>
                <a:lnTo>
                  <a:pt x="1412082" y="2381"/>
                </a:lnTo>
                <a:lnTo>
                  <a:pt x="1478757" y="16668"/>
                </a:lnTo>
                <a:lnTo>
                  <a:pt x="1571625" y="45243"/>
                </a:lnTo>
                <a:lnTo>
                  <a:pt x="1681163" y="97631"/>
                </a:lnTo>
                <a:lnTo>
                  <a:pt x="1721644" y="121443"/>
                </a:lnTo>
                <a:lnTo>
                  <a:pt x="1750219" y="142875"/>
                </a:lnTo>
                <a:lnTo>
                  <a:pt x="1759744" y="154781"/>
                </a:lnTo>
                <a:lnTo>
                  <a:pt x="1762125" y="173831"/>
                </a:lnTo>
                <a:lnTo>
                  <a:pt x="1757363" y="190500"/>
                </a:lnTo>
                <a:lnTo>
                  <a:pt x="1740694" y="211931"/>
                </a:lnTo>
                <a:lnTo>
                  <a:pt x="1709738" y="235743"/>
                </a:lnTo>
                <a:lnTo>
                  <a:pt x="1681163" y="247650"/>
                </a:lnTo>
                <a:lnTo>
                  <a:pt x="1509713" y="271462"/>
                </a:lnTo>
                <a:lnTo>
                  <a:pt x="1197769" y="314325"/>
                </a:lnTo>
                <a:lnTo>
                  <a:pt x="802482" y="373856"/>
                </a:lnTo>
                <a:lnTo>
                  <a:pt x="523875" y="416718"/>
                </a:lnTo>
                <a:lnTo>
                  <a:pt x="419100" y="433387"/>
                </a:lnTo>
                <a:lnTo>
                  <a:pt x="354807" y="442912"/>
                </a:lnTo>
                <a:lnTo>
                  <a:pt x="314325" y="445293"/>
                </a:lnTo>
                <a:lnTo>
                  <a:pt x="261938" y="433387"/>
                </a:lnTo>
                <a:lnTo>
                  <a:pt x="192882" y="407193"/>
                </a:lnTo>
                <a:lnTo>
                  <a:pt x="135732" y="371475"/>
                </a:lnTo>
                <a:lnTo>
                  <a:pt x="76200" y="319087"/>
                </a:lnTo>
                <a:lnTo>
                  <a:pt x="16669" y="254793"/>
                </a:lnTo>
                <a:lnTo>
                  <a:pt x="0" y="223837"/>
                </a:lnTo>
                <a:lnTo>
                  <a:pt x="9525" y="207168"/>
                </a:lnTo>
                <a:lnTo>
                  <a:pt x="23813" y="202406"/>
                </a:lnTo>
                <a:lnTo>
                  <a:pt x="71438" y="211931"/>
                </a:lnTo>
                <a:lnTo>
                  <a:pt x="169069" y="233362"/>
                </a:lnTo>
                <a:lnTo>
                  <a:pt x="250032" y="247650"/>
                </a:lnTo>
                <a:lnTo>
                  <a:pt x="319088" y="247650"/>
                </a:lnTo>
                <a:lnTo>
                  <a:pt x="473869" y="235743"/>
                </a:lnTo>
                <a:lnTo>
                  <a:pt x="645319" y="214312"/>
                </a:lnTo>
                <a:lnTo>
                  <a:pt x="854869" y="173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8" name="フリーフォーム 47"/>
          <p:cNvSpPr/>
          <p:nvPr/>
        </p:nvSpPr>
        <p:spPr>
          <a:xfrm>
            <a:off x="3701880" y="2693880"/>
            <a:ext cx="2927520" cy="623880"/>
          </a:xfrm>
          <a:custGeom>
            <a:avLst/>
            <a:gdLst/>
            <a:ahLst/>
            <a:rect l="l" t="t" r="r" b="b"/>
            <a:pathLst>
              <a:path w="3170779" h="623338">
                <a:moveTo>
                  <a:pt x="1174553" y="278184"/>
                </a:moveTo>
                <a:lnTo>
                  <a:pt x="824248" y="327124"/>
                </a:lnTo>
                <a:lnTo>
                  <a:pt x="504852" y="373488"/>
                </a:lnTo>
                <a:lnTo>
                  <a:pt x="425003" y="383791"/>
                </a:lnTo>
                <a:lnTo>
                  <a:pt x="370912" y="386366"/>
                </a:lnTo>
                <a:lnTo>
                  <a:pt x="296214" y="378639"/>
                </a:lnTo>
                <a:lnTo>
                  <a:pt x="123637" y="337427"/>
                </a:lnTo>
                <a:lnTo>
                  <a:pt x="38637" y="311669"/>
                </a:lnTo>
                <a:lnTo>
                  <a:pt x="12879" y="311669"/>
                </a:lnTo>
                <a:lnTo>
                  <a:pt x="0" y="316821"/>
                </a:lnTo>
                <a:lnTo>
                  <a:pt x="2576" y="329699"/>
                </a:lnTo>
                <a:lnTo>
                  <a:pt x="15455" y="347730"/>
                </a:lnTo>
                <a:lnTo>
                  <a:pt x="54091" y="386366"/>
                </a:lnTo>
                <a:lnTo>
                  <a:pt x="141668" y="458488"/>
                </a:lnTo>
                <a:lnTo>
                  <a:pt x="260153" y="543489"/>
                </a:lnTo>
                <a:lnTo>
                  <a:pt x="355457" y="600156"/>
                </a:lnTo>
                <a:lnTo>
                  <a:pt x="412124" y="620762"/>
                </a:lnTo>
                <a:lnTo>
                  <a:pt x="437882" y="623338"/>
                </a:lnTo>
                <a:lnTo>
                  <a:pt x="497125" y="610459"/>
                </a:lnTo>
                <a:lnTo>
                  <a:pt x="731520" y="553792"/>
                </a:lnTo>
                <a:lnTo>
                  <a:pt x="916976" y="515155"/>
                </a:lnTo>
                <a:lnTo>
                  <a:pt x="1146220" y="476519"/>
                </a:lnTo>
                <a:lnTo>
                  <a:pt x="1421828" y="435306"/>
                </a:lnTo>
                <a:lnTo>
                  <a:pt x="1581526" y="412124"/>
                </a:lnTo>
                <a:lnTo>
                  <a:pt x="1700011" y="381215"/>
                </a:lnTo>
                <a:lnTo>
                  <a:pt x="1779860" y="368336"/>
                </a:lnTo>
                <a:lnTo>
                  <a:pt x="2109560" y="334851"/>
                </a:lnTo>
                <a:lnTo>
                  <a:pt x="2431531" y="309093"/>
                </a:lnTo>
                <a:lnTo>
                  <a:pt x="2655624" y="293639"/>
                </a:lnTo>
                <a:lnTo>
                  <a:pt x="2859110" y="285911"/>
                </a:lnTo>
                <a:lnTo>
                  <a:pt x="3005929" y="283335"/>
                </a:lnTo>
                <a:lnTo>
                  <a:pt x="3075475" y="288487"/>
                </a:lnTo>
                <a:lnTo>
                  <a:pt x="3108960" y="280760"/>
                </a:lnTo>
                <a:lnTo>
                  <a:pt x="3139869" y="265305"/>
                </a:lnTo>
                <a:lnTo>
                  <a:pt x="3155324" y="249850"/>
                </a:lnTo>
                <a:lnTo>
                  <a:pt x="3170779" y="221517"/>
                </a:lnTo>
                <a:lnTo>
                  <a:pt x="3170779" y="200911"/>
                </a:lnTo>
                <a:lnTo>
                  <a:pt x="3160476" y="177729"/>
                </a:lnTo>
                <a:lnTo>
                  <a:pt x="3137294" y="146819"/>
                </a:lnTo>
                <a:lnTo>
                  <a:pt x="3114112" y="123637"/>
                </a:lnTo>
                <a:lnTo>
                  <a:pt x="3080627" y="103031"/>
                </a:lnTo>
                <a:lnTo>
                  <a:pt x="3003353" y="69546"/>
                </a:lnTo>
                <a:lnTo>
                  <a:pt x="2931232" y="41213"/>
                </a:lnTo>
                <a:lnTo>
                  <a:pt x="2843655" y="15455"/>
                </a:lnTo>
                <a:lnTo>
                  <a:pt x="2774109" y="0"/>
                </a:lnTo>
                <a:lnTo>
                  <a:pt x="2756079" y="5152"/>
                </a:lnTo>
                <a:lnTo>
                  <a:pt x="2683957" y="46364"/>
                </a:lnTo>
                <a:lnTo>
                  <a:pt x="2616987" y="87577"/>
                </a:lnTo>
                <a:lnTo>
                  <a:pt x="2591229" y="92728"/>
                </a:lnTo>
                <a:lnTo>
                  <a:pt x="2483047" y="105607"/>
                </a:lnTo>
                <a:lnTo>
                  <a:pt x="2246076" y="133941"/>
                </a:lnTo>
                <a:lnTo>
                  <a:pt x="1893194" y="180305"/>
                </a:lnTo>
                <a:lnTo>
                  <a:pt x="1398646" y="247275"/>
                </a:lnTo>
                <a:lnTo>
                  <a:pt x="1174553" y="278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フリーフォーム 45"/>
          <p:cNvSpPr/>
          <p:nvPr/>
        </p:nvSpPr>
        <p:spPr>
          <a:xfrm>
            <a:off x="3103560" y="3317760"/>
            <a:ext cx="266760" cy="2422800"/>
          </a:xfrm>
          <a:custGeom>
            <a:avLst/>
            <a:gdLst/>
            <a:ahLst/>
            <a:rect l="l" t="t" r="r" b="b"/>
            <a:pathLst>
              <a:path w="288925" h="2422525">
                <a:moveTo>
                  <a:pt x="288925" y="822325"/>
                </a:moveTo>
                <a:lnTo>
                  <a:pt x="288925" y="555625"/>
                </a:lnTo>
                <a:lnTo>
                  <a:pt x="288925" y="381000"/>
                </a:lnTo>
                <a:lnTo>
                  <a:pt x="282575" y="320675"/>
                </a:lnTo>
                <a:lnTo>
                  <a:pt x="241300" y="184150"/>
                </a:lnTo>
                <a:lnTo>
                  <a:pt x="196850" y="88900"/>
                </a:lnTo>
                <a:lnTo>
                  <a:pt x="47625" y="0"/>
                </a:lnTo>
                <a:lnTo>
                  <a:pt x="60325" y="282575"/>
                </a:lnTo>
                <a:lnTo>
                  <a:pt x="88900" y="339725"/>
                </a:lnTo>
                <a:lnTo>
                  <a:pt x="111125" y="406400"/>
                </a:lnTo>
                <a:lnTo>
                  <a:pt x="111125" y="520700"/>
                </a:lnTo>
                <a:cubicBezTo>
                  <a:pt x="109008" y="672042"/>
                  <a:pt x="106892" y="823383"/>
                  <a:pt x="104775" y="974725"/>
                </a:cubicBezTo>
                <a:lnTo>
                  <a:pt x="95250" y="1289050"/>
                </a:lnTo>
                <a:lnTo>
                  <a:pt x="79375" y="1600200"/>
                </a:lnTo>
                <a:lnTo>
                  <a:pt x="57150" y="1816100"/>
                </a:lnTo>
                <a:lnTo>
                  <a:pt x="38100" y="1939925"/>
                </a:lnTo>
                <a:lnTo>
                  <a:pt x="15875" y="2019300"/>
                </a:lnTo>
                <a:lnTo>
                  <a:pt x="0" y="2066925"/>
                </a:lnTo>
                <a:lnTo>
                  <a:pt x="12700" y="2130425"/>
                </a:lnTo>
                <a:lnTo>
                  <a:pt x="57150" y="2282825"/>
                </a:lnTo>
                <a:lnTo>
                  <a:pt x="88900" y="2374900"/>
                </a:lnTo>
                <a:lnTo>
                  <a:pt x="101600" y="2390775"/>
                </a:lnTo>
                <a:lnTo>
                  <a:pt x="130175" y="2413000"/>
                </a:lnTo>
                <a:lnTo>
                  <a:pt x="158750" y="2422525"/>
                </a:lnTo>
                <a:lnTo>
                  <a:pt x="200025" y="2413000"/>
                </a:lnTo>
                <a:lnTo>
                  <a:pt x="241300" y="2374900"/>
                </a:lnTo>
                <a:lnTo>
                  <a:pt x="254000" y="2339975"/>
                </a:lnTo>
                <a:lnTo>
                  <a:pt x="266700" y="2273300"/>
                </a:lnTo>
                <a:lnTo>
                  <a:pt x="276225" y="2216150"/>
                </a:lnTo>
                <a:lnTo>
                  <a:pt x="285750" y="2076450"/>
                </a:lnTo>
                <a:cubicBezTo>
                  <a:pt x="286808" y="2002367"/>
                  <a:pt x="287867" y="1928283"/>
                  <a:pt x="288925" y="1854200"/>
                </a:cubicBezTo>
                <a:cubicBezTo>
                  <a:pt x="287867" y="1715558"/>
                  <a:pt x="286808" y="1576917"/>
                  <a:pt x="285750" y="1438275"/>
                </a:cubicBezTo>
                <a:cubicBezTo>
                  <a:pt x="286808" y="1241425"/>
                  <a:pt x="287867" y="1044575"/>
                  <a:pt x="288925" y="8223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0" name="フリーフォーム 42"/>
          <p:cNvSpPr/>
          <p:nvPr/>
        </p:nvSpPr>
        <p:spPr>
          <a:xfrm rot="16200000">
            <a:off x="3775320" y="4219560"/>
            <a:ext cx="3033360" cy="573120"/>
          </a:xfrm>
          <a:custGeom>
            <a:avLst/>
            <a:gdLst/>
            <a:ahLst/>
            <a:rect l="l" t="t" r="r" b="b"/>
            <a:pathLst>
              <a:path w="3033905" h="621052">
                <a:moveTo>
                  <a:pt x="1168107" y="581410"/>
                </a:moveTo>
                <a:lnTo>
                  <a:pt x="845688" y="589339"/>
                </a:lnTo>
                <a:lnTo>
                  <a:pt x="689764" y="591981"/>
                </a:lnTo>
                <a:lnTo>
                  <a:pt x="549697" y="594624"/>
                </a:lnTo>
                <a:lnTo>
                  <a:pt x="430772" y="597267"/>
                </a:lnTo>
                <a:lnTo>
                  <a:pt x="340918" y="586696"/>
                </a:lnTo>
                <a:lnTo>
                  <a:pt x="245778" y="570839"/>
                </a:lnTo>
                <a:lnTo>
                  <a:pt x="179709" y="549697"/>
                </a:lnTo>
                <a:lnTo>
                  <a:pt x="121568" y="523269"/>
                </a:lnTo>
                <a:lnTo>
                  <a:pt x="68712" y="496841"/>
                </a:lnTo>
                <a:lnTo>
                  <a:pt x="26428" y="465128"/>
                </a:lnTo>
                <a:lnTo>
                  <a:pt x="7929" y="438700"/>
                </a:lnTo>
                <a:lnTo>
                  <a:pt x="0" y="425487"/>
                </a:lnTo>
                <a:lnTo>
                  <a:pt x="5286" y="406987"/>
                </a:lnTo>
                <a:lnTo>
                  <a:pt x="15857" y="380559"/>
                </a:lnTo>
                <a:lnTo>
                  <a:pt x="31713" y="362060"/>
                </a:lnTo>
                <a:lnTo>
                  <a:pt x="71355" y="332989"/>
                </a:lnTo>
                <a:lnTo>
                  <a:pt x="348846" y="256349"/>
                </a:lnTo>
                <a:lnTo>
                  <a:pt x="584053" y="322418"/>
                </a:lnTo>
                <a:lnTo>
                  <a:pt x="623695" y="330347"/>
                </a:lnTo>
                <a:lnTo>
                  <a:pt x="769048" y="335632"/>
                </a:lnTo>
                <a:lnTo>
                  <a:pt x="1157535" y="348846"/>
                </a:lnTo>
                <a:lnTo>
                  <a:pt x="1511667" y="356774"/>
                </a:lnTo>
                <a:lnTo>
                  <a:pt x="1905441" y="351489"/>
                </a:lnTo>
                <a:lnTo>
                  <a:pt x="2238430" y="338275"/>
                </a:lnTo>
                <a:lnTo>
                  <a:pt x="2410211" y="322418"/>
                </a:lnTo>
                <a:lnTo>
                  <a:pt x="2587276" y="301276"/>
                </a:lnTo>
                <a:lnTo>
                  <a:pt x="2700916" y="280134"/>
                </a:lnTo>
                <a:lnTo>
                  <a:pt x="2727344" y="272206"/>
                </a:lnTo>
                <a:lnTo>
                  <a:pt x="2790770" y="232564"/>
                </a:lnTo>
                <a:lnTo>
                  <a:pt x="2893838" y="140067"/>
                </a:lnTo>
                <a:lnTo>
                  <a:pt x="2967836" y="68712"/>
                </a:lnTo>
                <a:lnTo>
                  <a:pt x="3033905" y="0"/>
                </a:lnTo>
                <a:lnTo>
                  <a:pt x="2962550" y="266920"/>
                </a:lnTo>
                <a:lnTo>
                  <a:pt x="2848911" y="433415"/>
                </a:lnTo>
                <a:lnTo>
                  <a:pt x="2761700" y="544411"/>
                </a:lnTo>
                <a:lnTo>
                  <a:pt x="2743200" y="573482"/>
                </a:lnTo>
                <a:lnTo>
                  <a:pt x="2729986" y="589339"/>
                </a:lnTo>
                <a:lnTo>
                  <a:pt x="2711487" y="602552"/>
                </a:lnTo>
                <a:lnTo>
                  <a:pt x="2685059" y="615766"/>
                </a:lnTo>
                <a:lnTo>
                  <a:pt x="2650703" y="621052"/>
                </a:lnTo>
                <a:lnTo>
                  <a:pt x="2616347" y="613123"/>
                </a:lnTo>
                <a:lnTo>
                  <a:pt x="2558206" y="594624"/>
                </a:lnTo>
                <a:lnTo>
                  <a:pt x="2515922" y="584053"/>
                </a:lnTo>
                <a:lnTo>
                  <a:pt x="2225216" y="573482"/>
                </a:lnTo>
                <a:lnTo>
                  <a:pt x="1884298" y="573482"/>
                </a:lnTo>
                <a:lnTo>
                  <a:pt x="1501096" y="578767"/>
                </a:lnTo>
                <a:lnTo>
                  <a:pt x="1168107" y="5814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フリーフォーム 48"/>
          <p:cNvSpPr/>
          <p:nvPr/>
        </p:nvSpPr>
        <p:spPr>
          <a:xfrm>
            <a:off x="4605480" y="5370480"/>
            <a:ext cx="726840" cy="606600"/>
          </a:xfrm>
          <a:custGeom>
            <a:avLst/>
            <a:gdLst/>
            <a:ahLst/>
            <a:rect l="l" t="t" r="r" b="b"/>
            <a:pathLst>
              <a:path w="788194" h="607219">
                <a:moveTo>
                  <a:pt x="526256" y="107156"/>
                </a:moveTo>
                <a:lnTo>
                  <a:pt x="597694" y="121444"/>
                </a:lnTo>
                <a:lnTo>
                  <a:pt x="642937" y="126206"/>
                </a:lnTo>
                <a:lnTo>
                  <a:pt x="681037" y="121444"/>
                </a:lnTo>
                <a:lnTo>
                  <a:pt x="711994" y="111919"/>
                </a:lnTo>
                <a:lnTo>
                  <a:pt x="733425" y="95250"/>
                </a:lnTo>
                <a:lnTo>
                  <a:pt x="747712" y="76200"/>
                </a:lnTo>
                <a:lnTo>
                  <a:pt x="773906" y="0"/>
                </a:lnTo>
                <a:lnTo>
                  <a:pt x="788194" y="607219"/>
                </a:lnTo>
                <a:lnTo>
                  <a:pt x="740569" y="545306"/>
                </a:lnTo>
                <a:lnTo>
                  <a:pt x="678656" y="461962"/>
                </a:lnTo>
                <a:lnTo>
                  <a:pt x="642937" y="421481"/>
                </a:lnTo>
                <a:lnTo>
                  <a:pt x="597694" y="378619"/>
                </a:lnTo>
                <a:lnTo>
                  <a:pt x="552450" y="338137"/>
                </a:lnTo>
                <a:lnTo>
                  <a:pt x="481012" y="290512"/>
                </a:lnTo>
                <a:lnTo>
                  <a:pt x="383381" y="228600"/>
                </a:lnTo>
                <a:lnTo>
                  <a:pt x="295275" y="180975"/>
                </a:lnTo>
                <a:lnTo>
                  <a:pt x="221456" y="142875"/>
                </a:lnTo>
                <a:lnTo>
                  <a:pt x="145256" y="107156"/>
                </a:lnTo>
                <a:lnTo>
                  <a:pt x="95250" y="88106"/>
                </a:lnTo>
                <a:lnTo>
                  <a:pt x="57150" y="73819"/>
                </a:lnTo>
                <a:lnTo>
                  <a:pt x="21431" y="52387"/>
                </a:lnTo>
                <a:lnTo>
                  <a:pt x="4762" y="33337"/>
                </a:lnTo>
                <a:lnTo>
                  <a:pt x="0" y="21431"/>
                </a:lnTo>
                <a:lnTo>
                  <a:pt x="4762" y="14287"/>
                </a:lnTo>
                <a:lnTo>
                  <a:pt x="19050" y="4762"/>
                </a:lnTo>
                <a:lnTo>
                  <a:pt x="59531" y="2381"/>
                </a:lnTo>
                <a:lnTo>
                  <a:pt x="147637" y="19050"/>
                </a:lnTo>
                <a:lnTo>
                  <a:pt x="290512" y="54769"/>
                </a:lnTo>
                <a:lnTo>
                  <a:pt x="459581" y="95250"/>
                </a:lnTo>
                <a:lnTo>
                  <a:pt x="526256" y="107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06720" y="0"/>
            <a:ext cx="14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1628640"/>
            <a:ext cx="199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よみかた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227640" y="1700280"/>
            <a:ext cx="126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いみ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9280" y="2276640"/>
            <a:ext cx="26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つかいかた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50880" y="2924280"/>
            <a:ext cx="8109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is is a crossroad.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　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行 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 read as:        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　　　　　　　　い 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行きます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to go)                     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ゆ 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行き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bound for)                       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こう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ぎん行 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bank),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りょ行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trip),   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1" lang="ja-JP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ひ行き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plane)   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451640" y="16286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go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95640" y="1628640"/>
            <a:ext cx="39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Arial"/>
              </a:rPr>
              <a:t>こう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Arial"/>
              </a:rPr>
              <a:t>い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Arial"/>
              </a:rPr>
              <a:t>く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  <a:ea typeface="Arial"/>
              </a:rPr>
              <a:t>)/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Arial"/>
              </a:rPr>
              <a:t>ゆ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Arial"/>
              </a:rPr>
              <a:t>き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9" name="Picture 9" descr="j0299751"/>
          <p:cNvPicPr/>
          <p:nvPr/>
        </p:nvPicPr>
        <p:blipFill>
          <a:blip r:embed="rId1"/>
          <a:stretch/>
        </p:blipFill>
        <p:spPr>
          <a:xfrm>
            <a:off x="5580000" y="2637000"/>
            <a:ext cx="1527120" cy="136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1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2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260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ff99"/>
                </a:solidFill>
                <a:latin typeface="Kristen ITC"/>
              </a:rPr>
              <a:t>The Characteristics of Japanese verbs</a:t>
            </a:r>
            <a:endParaRPr b="1" lang="en-US" sz="5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21337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Kristen ITC"/>
              </a:rPr>
              <a:t>Japanese verbs have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804000" y="206208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Kristen ITC"/>
              </a:rPr>
              <a:t>parts.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938920" y="18464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Kristen ITC"/>
              </a:rPr>
              <a:t>2</a:t>
            </a:r>
            <a:endParaRPr b="1" lang="en-US" sz="7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0000" y="2997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ff"/>
                </a:solidFill>
                <a:latin typeface="Kristen ITC"/>
                <a:ea typeface="MS PGothic"/>
              </a:rPr>
              <a:t>Stem</a:t>
            </a:r>
            <a:endParaRPr b="1" lang="en-US" sz="5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88000" y="299736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Kristen ITC"/>
                <a:ea typeface="MS PGothic"/>
              </a:rPr>
              <a:t>Root</a:t>
            </a:r>
            <a:endParaRPr b="1" lang="en-US" sz="5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9280" y="4797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(</a:t>
            </a: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to go)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494172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ff"/>
                </a:solidFill>
                <a:latin typeface="Kristen ITC"/>
              </a:rPr>
              <a:t>いき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00720" y="4941720"/>
            <a:ext cx="269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す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9" name="Picture 18" descr="j0234633"/>
          <p:cNvPicPr/>
          <p:nvPr/>
        </p:nvPicPr>
        <p:blipFill>
          <a:blip r:embed="rId1"/>
          <a:stretch/>
        </p:blipFill>
        <p:spPr>
          <a:xfrm>
            <a:off x="7070760" y="4005360"/>
            <a:ext cx="1920960" cy="25207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9"/>
          <p:cNvSpPr/>
          <p:nvPr/>
        </p:nvSpPr>
        <p:spPr>
          <a:xfrm>
            <a:off x="2195640" y="3789360"/>
            <a:ext cx="1728720" cy="1152360"/>
          </a:xfrm>
          <a:prstGeom prst="upArrowCallout">
            <a:avLst>
              <a:gd name="adj1" fmla="val 37507"/>
              <a:gd name="adj2" fmla="val 37504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meaning of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the verb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4859280" y="3860640"/>
            <a:ext cx="1873440" cy="1079640"/>
          </a:xfrm>
          <a:prstGeom prst="upArrowCallout">
            <a:avLst>
              <a:gd name="adj1" fmla="val 43385"/>
              <a:gd name="adj2" fmla="val 43381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tense/aspect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of the verb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2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2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いきます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-181080" y="263700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ff"/>
                </a:solidFill>
                <a:latin typeface="Kristen ITC"/>
              </a:rPr>
              <a:t>いき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52720" y="2637000"/>
            <a:ext cx="269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す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2050920" y="4149720"/>
            <a:ext cx="2519640" cy="1224000"/>
          </a:xfrm>
          <a:prstGeom prst="upArrowCallout">
            <a:avLst>
              <a:gd name="adj1" fmla="val 51468"/>
              <a:gd name="adj2" fmla="val 51463"/>
              <a:gd name="adj3" fmla="val 16667"/>
              <a:gd name="adj4" fmla="val 6666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Present /future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positive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059280" y="566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go/will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52720" y="2637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せん</a:t>
            </a:r>
            <a:r>
              <a:rPr b="1" lang="en-US" sz="9600" spc="-1" strike="noStrike">
                <a:solidFill>
                  <a:srgbClr val="000000"/>
                </a:solidFill>
                <a:latin typeface="NtMotoyaKyotai"/>
              </a:rPr>
              <a:t> 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052720" y="263700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した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835280" y="2637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せんでした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979640" y="256536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しょう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050920" y="256536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しょうか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124000" y="26370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ませんか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124000" y="256536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d9"/>
                </a:solidFill>
                <a:latin typeface="NtMotoyaKyotai"/>
              </a:rPr>
              <a:t>たいです</a:t>
            </a: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 　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2411280" y="4149720"/>
            <a:ext cx="2519640" cy="1224000"/>
          </a:xfrm>
          <a:prstGeom prst="upArrowCallout">
            <a:avLst>
              <a:gd name="adj1" fmla="val 51468"/>
              <a:gd name="adj2" fmla="val 51463"/>
              <a:gd name="adj3" fmla="val 16667"/>
              <a:gd name="adj4" fmla="val 6666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mic Sans MS"/>
                <a:ea typeface="Arial"/>
              </a:rPr>
              <a:t>Present /future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mic Sans MS"/>
                <a:ea typeface="Arial"/>
              </a:rPr>
              <a:t>negative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2484360" y="4149720"/>
            <a:ext cx="2519280" cy="1224000"/>
          </a:xfrm>
          <a:prstGeom prst="upArrowCallout">
            <a:avLst>
              <a:gd name="adj1" fmla="val 51461"/>
              <a:gd name="adj2" fmla="val 51456"/>
              <a:gd name="adj3" fmla="val 16667"/>
              <a:gd name="adj4" fmla="val 6666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Past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positive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6" name="AutoShape 24"/>
          <p:cNvSpPr/>
          <p:nvPr/>
        </p:nvSpPr>
        <p:spPr>
          <a:xfrm>
            <a:off x="4284720" y="4149720"/>
            <a:ext cx="2519280" cy="1224000"/>
          </a:xfrm>
          <a:prstGeom prst="upArrowCallout">
            <a:avLst>
              <a:gd name="adj1" fmla="val 51461"/>
              <a:gd name="adj2" fmla="val 51456"/>
              <a:gd name="adj3" fmla="val 16667"/>
              <a:gd name="adj4" fmla="val 6666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Past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negative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7" name="AutoShape 25"/>
          <p:cNvSpPr/>
          <p:nvPr/>
        </p:nvSpPr>
        <p:spPr>
          <a:xfrm>
            <a:off x="3780000" y="4149720"/>
            <a:ext cx="2519280" cy="1224000"/>
          </a:xfrm>
          <a:prstGeom prst="upArrowCallout">
            <a:avLst>
              <a:gd name="adj1" fmla="val 51461"/>
              <a:gd name="adj2" fmla="val 51456"/>
              <a:gd name="adj3" fmla="val 16667"/>
              <a:gd name="adj4" fmla="val 6666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ggestion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t’s ~!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3564000" y="4149720"/>
            <a:ext cx="2519280" cy="1224000"/>
          </a:xfrm>
          <a:prstGeom prst="upArrowCallout">
            <a:avLst>
              <a:gd name="adj1" fmla="val 51461"/>
              <a:gd name="adj2" fmla="val 51456"/>
              <a:gd name="adj3" fmla="val 16667"/>
              <a:gd name="adj4" fmla="val 6666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Suggestion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Shall we ~?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>
            <a:off x="3995640" y="4149720"/>
            <a:ext cx="2519640" cy="1224000"/>
          </a:xfrm>
          <a:prstGeom prst="upArrowCallout">
            <a:avLst>
              <a:gd name="adj1" fmla="val 51468"/>
              <a:gd name="adj2" fmla="val 51463"/>
              <a:gd name="adj3" fmla="val 16667"/>
              <a:gd name="adj4" fmla="val 6666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  <a:ea typeface="Arial"/>
              </a:rPr>
              <a:t>Invitation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  <a:ea typeface="Arial"/>
              </a:rPr>
              <a:t>Would you like to do~?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0" name="AutoShape 28"/>
          <p:cNvSpPr/>
          <p:nvPr/>
        </p:nvSpPr>
        <p:spPr>
          <a:xfrm>
            <a:off x="3203640" y="4149720"/>
            <a:ext cx="2519280" cy="1224000"/>
          </a:xfrm>
          <a:prstGeom prst="upArrowCallout">
            <a:avLst>
              <a:gd name="adj1" fmla="val 51461"/>
              <a:gd name="adj2" fmla="val 51456"/>
              <a:gd name="adj3" fmla="val 16667"/>
              <a:gd name="adj4" fmla="val 666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Wish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Want to ~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411280" y="566100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don’t/won’t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3564000" y="558972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went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132000" y="566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didn’t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3492360" y="5661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let’s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2771640" y="5661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hall we go?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619280" y="5589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would you like to go?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2843280" y="5589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want to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08" name="Picture 36" descr="j0234633"/>
          <p:cNvPicPr/>
          <p:nvPr/>
        </p:nvPicPr>
        <p:blipFill>
          <a:blip r:embed="rId1"/>
          <a:stretch/>
        </p:blipFill>
        <p:spPr>
          <a:xfrm>
            <a:off x="7223040" y="4336920"/>
            <a:ext cx="1920960" cy="2521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3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Tense/aspect of the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63840"/>
          <a:ext cx="8713800" cy="5111640"/>
        </p:xfrm>
        <a:graphic>
          <a:graphicData uri="http://schemas.openxmlformats.org/drawingml/2006/table">
            <a:tbl>
              <a:tblPr/>
              <a:tblGrid>
                <a:gridCol w="1873080"/>
                <a:gridCol w="2664000"/>
                <a:gridCol w="4176720"/>
              </a:tblGrid>
              <a:tr h="63972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M +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す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/future positive 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せん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/future negative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した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positive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せんでした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negative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しょう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ggestion (let’s ~!)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しょうか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ggestion (shall we ~?)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ませんか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itation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ould you like to ~?)</a:t>
                      </a:r>
                      <a:endParaRPr b="1" lang="en-US" sz="1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たいです</a:t>
                      </a:r>
                      <a:endParaRPr b="1" lang="en-US" sz="32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sh (want to ~)</a:t>
                      </a:r>
                      <a:endParaRPr b="1" lang="en-US" sz="24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69" descr="j0234633"/>
          <p:cNvPicPr/>
          <p:nvPr/>
        </p:nvPicPr>
        <p:blipFill>
          <a:blip r:embed="rId1"/>
          <a:stretch/>
        </p:blipFill>
        <p:spPr>
          <a:xfrm>
            <a:off x="324000" y="4508640"/>
            <a:ext cx="1645920" cy="2160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732720" y="105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o go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35280" y="33336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</a:rPr>
              <a:t>行きます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979640" y="189000"/>
            <a:ext cx="9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い　　　　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2349360"/>
          <a:ext cx="8280360" cy="3097440"/>
        </p:xfrm>
        <a:graphic>
          <a:graphicData uri="http://schemas.openxmlformats.org/drawingml/2006/table">
            <a:tbl>
              <a:tblPr/>
              <a:tblGrid>
                <a:gridCol w="3030480"/>
                <a:gridCol w="52498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  <a:ea typeface="MS PGothic"/>
                        </a:rPr>
                        <a:t>Present negative 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  <a:ea typeface="MS PGothic"/>
                        </a:rPr>
                        <a:t>(not to go)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positive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ent)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 negative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didn’t go)</a:t>
                      </a:r>
                      <a:endParaRPr b="1" lang="en-US" sz="28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11" descr="j0346861"/>
          <p:cNvPicPr/>
          <p:nvPr/>
        </p:nvPicPr>
        <p:blipFill>
          <a:blip r:embed="rId1"/>
          <a:stretch/>
        </p:blipFill>
        <p:spPr>
          <a:xfrm>
            <a:off x="0" y="5421240"/>
            <a:ext cx="1440000" cy="1436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j0346859"/>
          <p:cNvPicPr/>
          <p:nvPr/>
        </p:nvPicPr>
        <p:blipFill>
          <a:blip r:embed="rId2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6"/>
          <p:cNvSpPr/>
          <p:nvPr/>
        </p:nvSpPr>
        <p:spPr>
          <a:xfrm>
            <a:off x="3708360" y="2492280"/>
            <a:ext cx="377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  <a:ea typeface="Arial"/>
              </a:rPr>
              <a:t>行き</a:t>
            </a: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Arial"/>
              </a:rPr>
              <a:t>ませ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3708360" y="3500280"/>
            <a:ext cx="36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  <a:ea typeface="Arial"/>
              </a:rPr>
              <a:t>行き</a:t>
            </a: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Arial"/>
              </a:rPr>
              <a:t>ました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708360" y="4508640"/>
            <a:ext cx="52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  <a:ea typeface="Arial"/>
              </a:rPr>
              <a:t>行き</a:t>
            </a:r>
            <a:r>
              <a:rPr b="1" lang="ja-JP" sz="4800" spc="-1" strike="noStrike">
                <a:solidFill>
                  <a:srgbClr val="ff33cc"/>
                </a:solidFill>
                <a:latin typeface="Arial"/>
                <a:ea typeface="Arial"/>
              </a:rPr>
              <a:t>ませんでした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0:42:40Z</dcterms:created>
  <dc:creator>Ministry of Education</dc:creator>
  <dc:description/>
  <dc:language>en-US</dc:language>
  <cp:lastModifiedBy>Chitose Izuno</cp:lastModifiedBy>
  <dcterms:modified xsi:type="dcterms:W3CDTF">2010-07-17T10:19:01Z</dcterms:modified>
  <cp:revision>41</cp:revision>
  <dc:subject/>
  <dc:title>Slide 1</dc:title>
</cp:coreProperties>
</file>